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AA95-1369-47EB-BDA6-70880905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of fragile state of content knowledge for teaching by teachers with whom we and other steering team leads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focus on CKT-M; a new vision with a focus on the big ideas in Number and other Relevant Big Ideas that focus on PR; anc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 and continued need to support MoE’s sharpened focus on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year’s breakout sessions will now be interwoven throughout all sessions; these will support participants in their exploration of the big ideas and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interconnections among these critical learnings as enabled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ing to expos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ing to provide appropriate scaffolding and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lanning to embed student success indicators with framework for math campp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networks within and across boards will continue to grow leadership across the prov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ight of this year’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, a coaching dimension (specifically co-planning) will be embedded within the camppp.  This will provide participants with the opportunity to deepen their understanding of the big ideas and consider applications of DI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76DC-EDAF-43C0-BBC7-01198541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751-0B34-44AC-B900-F072CB7C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96D-464D-438D-B97C-184B1E96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280-ED03-4606-8644-BBA62216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8BA4-1475-4EEC-8D26-776DAF3A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8FC4-E3C8-4A13-8116-C62BCB10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9978-37DF-4E56-9BA8-5A6763D4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85E0-729B-49DC-9631-F75CC4CF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6113-60A3-4D55-AEC5-2D4B1605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174A-4CC8-4AA0-9C02-33245B0C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111C-1ACB-4848-BC5B-D2882653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BD1-244B-4DF2-8334-2324D78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4C98-4B8C-4BA7-931D-A4BC70EE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3D64-467A-47E8-8DB4-AAFF4537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8B23-D7C1-4D03-822A-AFE389B1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E894-41EE-4231-AED0-A9AB6CC8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FA15-2930-4355-9A42-8A51B636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FBC-FC0A-4E57-8CBD-4F14EF39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3D39-7A2D-4455-9A46-FE4777DE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EDA-9A4E-4B66-8F2B-A651AECE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9B9-721A-4E96-B70B-13B0F39D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200-4CB8-4A05-BC7C-EE697EB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9C4-F58D-4B50-902B-4B80F92C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352-3359-4B92-8509-A0DE7E96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3D82-9C5A-4223-BE96-A32F6AC42BD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C7AF-C571-4996-913C-17F4716E1BE1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gains-camppp.wikispaces.com/CAMPPP+2010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0036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Welcome Session</a:t>
            </a:r>
            <a:br>
              <a:rPr sz="4800"/>
            </a:b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Monday August 16</a:t>
            </a:r>
            <a:r>
              <a:rPr b="0" lang="en-US" sz="1800" spc="-1" strike="noStrike" baseline="30000">
                <a:solidFill>
                  <a:srgbClr val="0d469b"/>
                </a:solidFill>
                <a:latin typeface="Book Antiqua"/>
                <a:ea typeface="Arial"/>
              </a:rPr>
              <a:t>th</a:t>
            </a: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&amp;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 Dalyrmple, York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isa Suurtamm, DSB of Niag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Timson, York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Quadrini, York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ley Yearley, Trillium Lakelands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87640" y="3122640"/>
            <a:ext cx="3205080" cy="3619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00" y="21985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1430280"/>
            <a:ext cx="183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3120" y="9619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voke and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27280" y="416736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51280" y="4959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58300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Differentiated Instruction through Ques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68720" y="4851360"/>
            <a:ext cx="16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5640" y="3446640"/>
            <a:ext cx="30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00360" y="5672160"/>
            <a:ext cx="20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529416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56360" y="5211720"/>
            <a:ext cx="2051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Engaging in Reflective Practice through Collaborative Learning and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15350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0920" y="206064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2360" y="2276640"/>
            <a:ext cx="3995640" cy="450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8720" y="8730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ig Ideas Relevant to Proportional Rea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Vision for Math CAMPPP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14920" y="2097000"/>
            <a:ext cx="169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eaching for Conceptual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657360"/>
            <a:ext cx="5616720" cy="6167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0" y="911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30440" y="1052640"/>
            <a:ext cx="3919680" cy="5322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oals for Math CAMPPP 2009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leave CAMPPP kn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practise the following in a safe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leave CAMPPP believing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for Number and Other Relevant Big Idea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1640" y="2016000"/>
            <a:ext cx="3645000" cy="4616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1881360"/>
          <a:ext cx="357984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357984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43280" y="1881360"/>
            <a:ext cx="3622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2.0 and PPQ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773360"/>
            <a:ext cx="3897360" cy="482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51280" y="1736640"/>
            <a:ext cx="3826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916280"/>
            <a:ext cx="838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enary Session Description &amp; Speaker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ing the Big Ideas Relevant to Proportional Reasoning Meaningful to All of Our 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1916280"/>
            <a:ext cx="838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cused Breakout Session Descriptions &amp; Speaker Bi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-2: Proportional Reasoning: Laying the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-6: Proportional Reasoning: A Focus on Multiplic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/8: Proportional Reasoning: A Focus on Ratio and Fraction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/10: Proportional Reasoning: A Focus on Propor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/12: Proportional Reasoning: Building to More Complex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aders: Creating an Environment for Mathematical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 Se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, Getting to Know You &amp; 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 for Math CAMPPP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CAMPP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CAMPPP Wiki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Usefu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76360" y="1700280"/>
            <a:ext cx="3829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lossary – Frayer Mode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1640" y="1925640"/>
            <a:ext cx="8256600" cy="474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Network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day to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portunity for campppers to get to know one another and engage in informal focused conver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ond floor common area [sitting areas, pool tables, shuffleboard, et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rooms 2 and 3 [ tables &amp; chairs for board games] in Bayview will be the social gathering space. Each evening around 8:30 p.m. snacks and ice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space in Mardon Lo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7621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Housekee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th CAMPPP memory st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nse claims –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Video and artefact permission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king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Kempenfelt Conference Centre – phone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rking Lo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0880" y="2205000"/>
            <a:ext cx="361476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7280" y="7621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CAMPPP 2010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5910480" cy="2060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56000" y="4005360"/>
            <a:ext cx="550872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ains-camppp.wikispaces.com/CAMPPP+2010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008000" y="3970440"/>
            <a:ext cx="237672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6000" y="4689360"/>
            <a:ext cx="8686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d469b"/>
                </a:solidFill>
                <a:latin typeface="Arial"/>
                <a:ea typeface="Arial"/>
              </a:rPr>
              <a:t>Enjoy Math CAMPPP!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3640" y="1628640"/>
            <a:ext cx="7093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We all need someone who inspires us to do better than we know h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Ice Breaker…Getting to Know the Group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ganiz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ye Appleby, Retired – Lond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rna Ingalls, Ministry of Educ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ie Quadrini, Math Consultant – YCD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ley Yearley, Math Consultant – TLD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nary Present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arian Small, Consultant and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ynd, Retired from Trillium Lakelands 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nnis Fleming, Literacy and Numeracy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a Micomonaco, York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y Chaput, Wellington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Davis, Halt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yce Tonner, Thames Valley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&amp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ord, Kwartha Pine Ridge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elle Lang, Waterloo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bie Wines, Trillium Lakelands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&amp;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Alves, Peel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ia Ellison, Halton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h Steele, Simcoe County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0-07-19T17:49:07Z</dcterms:modified>
  <cp:revision>127</cp:revision>
  <dc:subject/>
  <dc:title>Slide 1</dc:title>
</cp:coreProperties>
</file>